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277-B8E0-43FF-967B-B8C81893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C0D-1E0F-46A9-BEC0-EB943A0A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E75-8602-4904-BE4A-C8D446CE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16E-AB8D-4E30-8255-E9AD327E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8998-A65F-4F16-9A35-2940D6A7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260D-B6B1-4BBA-87FB-C8BAD9F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012B-EC43-4F2B-84A9-92970C76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FEE0-2790-4423-A63F-DC0081A6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5C33-1569-4897-B214-AD2346A4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633C-2496-4A72-BB83-688D5B5B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796D-6EF4-457E-81E2-F2E752C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B2F-882A-4930-AE53-615E2D33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B92F-38AD-4316-9435-77E49DE8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7C9B-DAF7-44DC-97D9-C153D447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E026-C8E7-4D48-A94A-AD4D434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1BD3-A0AB-45B8-844F-5D772FF8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1F72-23B8-4FD1-B610-82870D55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B266-F111-463C-8FC7-8D6D049E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70BE-825F-49D4-AEC6-A6B8886D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A29D-83A0-473C-A2AA-62EA4717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0E48-935F-477B-A3A5-7001F68E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8377-B7A9-4F87-B8B8-87F23A3E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CD3-621A-4699-8877-5F541B2C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01C0-4FDE-48AD-BD20-2DC4B05B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D719-0E69-4EFE-B5C3-C80C4FF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03E1-1503-4A70-8B3F-B4F600B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3509-2CAF-4827-B425-82FFE36F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DA23-BD1D-4C76-9F19-3229A00E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B2D7-BCE2-4F2A-8CEA-CA291C37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1A24-973D-4C50-8153-ACB3CB26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1C80-DE14-416A-85B7-81744098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3573-84F7-4E3A-9EC8-FFB6AC4F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720E-04B3-41DD-822A-305E4DB4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9F8-49B3-43DF-8865-A3142860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8B4FE-B216-47CC-8D77-DA741C9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608A-0749-47B7-B9F3-664E2193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AF78-6028-4962-AF5E-50148B7D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D665-7480-4EB1-9909-51E729A1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E22C-8672-44FF-A457-5D22622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80DA-C104-4556-A532-FD46B3D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8D4B-1268-471A-9CA6-5432908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8D89-9B44-45FE-8407-AEE51676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8FEC-745E-46B1-9C8F-FA179C18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6A5EB-7FA5-40D5-B64F-EA8E49D1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71D-4F68-4090-939B-176C6AE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18DC-DEC2-4EC5-B064-ED47237E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B4BA7-A1D5-48AD-8354-BABE66F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ABD5-7C19-44ED-A176-83A797C9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829B-FE90-4858-8BDF-8B3ACB58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9986-7FC5-4919-AB65-75404859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3F43-B4D5-4EBB-B000-51ADBF9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CDDFE-1621-4818-A7DE-84D7F92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97AF-82ED-421F-991F-5EE9561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29412-1047-442D-946F-31374E6A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1AA5E-246E-46F5-B2BF-89E5A6E0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2A0-27B1-4AD2-8671-1636A6A6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2773D-06FE-453C-898E-170775A6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636C-5F5B-4AC9-A9AD-C6FEFF62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79A25-2B39-42F2-951B-77CE531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41C6-3350-414B-BF56-D5BC121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EDDF-E47B-4A29-8C26-FF2FDF4D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A65F-7895-4737-910A-31EE4776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D98F-38FD-40F2-8FD6-63C593B4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A988-A9F6-4A7B-B619-825F2ED6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700F4-E66F-443C-9BCF-B16D3FE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FF4D-8D79-4651-9ECE-EA73011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3D5-4A02-4140-B4F0-AD48CA8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FE876-386B-4639-9363-90F42354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FF3C3-0222-4417-A2B4-0F2283AA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852EC-6AD7-4499-AB2B-4ABEFF02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BC0D0-49ED-4347-BC90-5E3FA992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0B54A-BC86-4C11-92B8-F286A2A9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6FAB-A002-42A7-8228-B1B1EFD9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23439-0709-48DB-A754-B4780BE7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1B4E6-6CEB-4870-962D-DF2E092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A3C8-A056-40C2-906B-5F9FB479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A5CF-01DC-4B19-9861-4AFAF14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E66-2550-43A4-A7E5-5772F02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8FF9-3809-4A2D-AEF4-69E0AFF1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E4FC1-1074-4EB3-8F03-9A55B17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EAFA7-4CF7-4E6E-9060-5DB6B625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46D73-C09F-4943-8288-570B509F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E46D4-6C92-42E6-999F-C08C54CB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F74-C079-4BC9-8DA9-4C365A15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moonlight master 2.png"/>
          <p:cNvPicPr/>
          <p:nvPr/>
        </p:nvPicPr>
        <p:blipFill>
          <a:blip r:embed="rId3"/>
          <a:srcRect l="2391" t="1098" r="1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5EC6-CB02-4508-9230-A024866F8DC4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Moonlight title.png"/>
          <p:cNvPicPr/>
          <p:nvPr/>
        </p:nvPicPr>
        <p:blipFill>
          <a:blip r:embed="rId3"/>
          <a:srcRect l="6767" t="0" r="4152" b="41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76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5880" y="6543360"/>
            <a:ext cx="289584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240" y="6511680"/>
            <a:ext cx="10666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4287-7721-4066-AA77-EA08C70E2391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moonlight section.png"/>
          <p:cNvPicPr/>
          <p:nvPr/>
        </p:nvPicPr>
        <p:blipFill>
          <a:blip r:embed="rId3"/>
          <a:srcRect l="6390" t="0" r="4960" b="27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2AA0-BE3A-4A17-AB3A-C95F28A6F358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E04-F56C-4B46-9538-1416B423BA63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F9DE-7A61-4F35-AB90-6CE47CBC7288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88D1-82F4-4C2B-B594-6EBDB9200C9D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66C7-B43E-439D-B2C7-39AB12A9809A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506520" y="1749600"/>
            <a:ext cx="5675040" cy="2352600"/>
          </a:xfrm>
          <a:prstGeom prst="rect">
            <a:avLst/>
          </a:prstGeom>
          <a:ln w="0">
            <a:noFill/>
          </a:ln>
        </p:spPr>
      </p:pic>
      <p:pic>
        <p:nvPicPr>
          <p:cNvPr id="295" name="Subtitle 2" descr=""/>
          <p:cNvPicPr/>
          <p:nvPr/>
        </p:nvPicPr>
        <p:blipFill>
          <a:blip r:embed="rId2"/>
          <a:stretch/>
        </p:blipFill>
        <p:spPr>
          <a:xfrm>
            <a:off x="1365120" y="3657600"/>
            <a:ext cx="5273640" cy="2371680"/>
          </a:xfrm>
          <a:prstGeom prst="rect">
            <a:avLst/>
          </a:prstGeom>
          <a:ln w="0">
            <a:noFill/>
          </a:ln>
        </p:spPr>
      </p:pic>
      <p:cxnSp>
        <p:nvCxnSpPr>
          <p:cNvPr id="296" name="Straight Arrow Connector 4"/>
          <p:cNvCxnSpPr/>
          <p:nvPr/>
        </p:nvCxnSpPr>
        <p:spPr>
          <a:xfrm>
            <a:off x="3657600" y="4800600"/>
            <a:ext cx="457920" cy="2160"/>
          </a:xfrm>
          <a:prstGeom prst="straightConnector1">
            <a:avLst/>
          </a:prstGeom>
          <a:ln w="64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97" name="Straight Arrow Connector 5"/>
          <p:cNvCxnSpPr/>
          <p:nvPr/>
        </p:nvCxnSpPr>
        <p:spPr>
          <a:xfrm>
            <a:off x="2971800" y="5257800"/>
            <a:ext cx="457920" cy="2160"/>
          </a:xfrm>
          <a:prstGeom prst="straightConnector1">
            <a:avLst/>
          </a:prstGeom>
          <a:ln w="64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566640" y="44460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Content Placeholder 2" descr=""/>
          <p:cNvPicPr/>
          <p:nvPr/>
        </p:nvPicPr>
        <p:blipFill>
          <a:blip r:embed="rId2"/>
          <a:stretch/>
        </p:blipFill>
        <p:spPr>
          <a:xfrm>
            <a:off x="907920" y="1494000"/>
            <a:ext cx="2987640" cy="3870000"/>
          </a:xfrm>
          <a:prstGeom prst="rect">
            <a:avLst/>
          </a:prstGeom>
          <a:ln w="0">
            <a:noFill/>
          </a:ln>
        </p:spPr>
      </p:pic>
      <p:pic>
        <p:nvPicPr>
          <p:cNvPr id="339" name="Content Placeholder 3" descr=""/>
          <p:cNvPicPr/>
          <p:nvPr/>
        </p:nvPicPr>
        <p:blipFill>
          <a:blip r:embed="rId3"/>
          <a:stretch/>
        </p:blipFill>
        <p:spPr>
          <a:xfrm>
            <a:off x="3882960" y="2255760"/>
            <a:ext cx="43531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7785000" cy="1914480"/>
          </a:xfrm>
          <a:prstGeom prst="rect">
            <a:avLst/>
          </a:prstGeom>
          <a:ln w="0">
            <a:noFill/>
          </a:ln>
        </p:spPr>
      </p:pic>
      <p:pic>
        <p:nvPicPr>
          <p:cNvPr id="341" name="Text Placeholder 2" descr=""/>
          <p:cNvPicPr/>
          <p:nvPr/>
        </p:nvPicPr>
        <p:blipFill>
          <a:blip r:embed="rId2"/>
          <a:stretch/>
        </p:blipFill>
        <p:spPr>
          <a:xfrm>
            <a:off x="682560" y="3852720"/>
            <a:ext cx="77850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56664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43" name="Content Placeholder 2" descr=""/>
          <p:cNvPicPr/>
          <p:nvPr/>
        </p:nvPicPr>
        <p:blipFill>
          <a:blip r:embed="rId2"/>
          <a:stretch/>
        </p:blipFill>
        <p:spPr>
          <a:xfrm>
            <a:off x="603360" y="1798560"/>
            <a:ext cx="3084480" cy="387036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3" descr=""/>
          <p:cNvPicPr/>
          <p:nvPr/>
        </p:nvPicPr>
        <p:blipFill>
          <a:blip r:embed="rId3"/>
          <a:stretch/>
        </p:blipFill>
        <p:spPr>
          <a:xfrm>
            <a:off x="5022720" y="1968480"/>
            <a:ext cx="29876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231840" y="1000080"/>
            <a:ext cx="1377720" cy="2664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5934240" cy="3581280"/>
          </a:xfrm>
          <a:prstGeom prst="rect">
            <a:avLst/>
          </a:prstGeom>
          <a:ln w="0">
            <a:noFill/>
          </a:ln>
        </p:spPr>
      </p:pic>
      <p:pic>
        <p:nvPicPr>
          <p:cNvPr id="347" name="Text Placeholder 3" descr=""/>
          <p:cNvPicPr/>
          <p:nvPr/>
        </p:nvPicPr>
        <p:blipFill>
          <a:blip r:embed="rId3"/>
          <a:stretch/>
        </p:blipFill>
        <p:spPr>
          <a:xfrm>
            <a:off x="3060720" y="5456160"/>
            <a:ext cx="4572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341280" y="603360"/>
            <a:ext cx="7894800" cy="1182600"/>
          </a:xfrm>
          <a:prstGeom prst="rect">
            <a:avLst/>
          </a:prstGeom>
          <a:ln w="0">
            <a:noFill/>
          </a:ln>
        </p:spPr>
      </p:pic>
      <p:pic>
        <p:nvPicPr>
          <p:cNvPr id="299" name="Content Placeholder 2" descr=""/>
          <p:cNvPicPr/>
          <p:nvPr/>
        </p:nvPicPr>
        <p:blipFill>
          <a:blip r:embed="rId2"/>
          <a:stretch/>
        </p:blipFill>
        <p:spPr>
          <a:xfrm>
            <a:off x="755640" y="1712880"/>
            <a:ext cx="3530520" cy="438948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2" descr=""/>
          <p:cNvPicPr/>
          <p:nvPr/>
        </p:nvPicPr>
        <p:blipFill>
          <a:blip r:embed="rId3"/>
          <a:stretch/>
        </p:blipFill>
        <p:spPr>
          <a:xfrm>
            <a:off x="4870440" y="1712880"/>
            <a:ext cx="3517920" cy="438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6132600" y="3276720"/>
                <a:ext cx="225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7238880" y="3276720"/>
                <a:ext cx="225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5830920" y="3733920"/>
                <a:ext cx="146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-6480" y="378000"/>
            <a:ext cx="7785360" cy="1908000"/>
          </a:xfrm>
          <a:prstGeom prst="rect">
            <a:avLst/>
          </a:prstGeom>
          <a:ln w="0">
            <a:noFill/>
          </a:ln>
        </p:spPr>
      </p:pic>
      <p:pic>
        <p:nvPicPr>
          <p:cNvPr id="305" name="Text Placeholder 2" descr=""/>
          <p:cNvPicPr/>
          <p:nvPr/>
        </p:nvPicPr>
        <p:blipFill>
          <a:blip r:embed="rId2"/>
          <a:stretch/>
        </p:blipFill>
        <p:spPr>
          <a:xfrm>
            <a:off x="1060560" y="4108320"/>
            <a:ext cx="7785000" cy="1030320"/>
          </a:xfrm>
          <a:prstGeom prst="rect">
            <a:avLst/>
          </a:prstGeom>
          <a:ln w="0">
            <a:noFill/>
          </a:ln>
        </p:spPr>
      </p:pic>
      <p:pic>
        <p:nvPicPr>
          <p:cNvPr id="306" name="Title 1" descr=""/>
          <p:cNvPicPr/>
          <p:nvPr/>
        </p:nvPicPr>
        <p:blipFill>
          <a:blip r:embed="rId3"/>
          <a:stretch/>
        </p:blipFill>
        <p:spPr>
          <a:xfrm>
            <a:off x="523800" y="2736720"/>
            <a:ext cx="7937640" cy="1914480"/>
          </a:xfrm>
          <a:prstGeom prst="rect">
            <a:avLst/>
          </a:prstGeom>
          <a:ln w="0">
            <a:noFill/>
          </a:ln>
        </p:spPr>
      </p:pic>
      <p:pic>
        <p:nvPicPr>
          <p:cNvPr id="307" name="Text Placeholder 2" descr=""/>
          <p:cNvPicPr/>
          <p:nvPr/>
        </p:nvPicPr>
        <p:blipFill>
          <a:blip r:embed="rId4"/>
          <a:stretch/>
        </p:blipFill>
        <p:spPr>
          <a:xfrm>
            <a:off x="1212840" y="1822320"/>
            <a:ext cx="7785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Curved Connector 14"/>
          <p:cNvCxnSpPr/>
          <p:nvPr/>
        </p:nvCxnSpPr>
        <p:spPr>
          <a:xfrm flipV="1" rot="10800000">
            <a:off x="4952160" y="5333760"/>
            <a:ext cx="1448640" cy="915120"/>
          </a:xfrm>
          <a:prstGeom prst="curvedConnector5">
            <a:avLst>
              <a:gd name="adj1" fmla="val 49987"/>
              <a:gd name="adj2" fmla="val 49980"/>
              <a:gd name="adj3" fmla="val 49987"/>
            </a:avLst>
          </a:prstGeom>
          <a:ln w="64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64620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2" descr=""/>
          <p:cNvPicPr/>
          <p:nvPr/>
        </p:nvPicPr>
        <p:blipFill>
          <a:blip r:embed="rId2"/>
          <a:stretch/>
        </p:blipFill>
        <p:spPr>
          <a:xfrm>
            <a:off x="530280" y="1231920"/>
            <a:ext cx="2981160" cy="1212840"/>
          </a:xfrm>
          <a:prstGeom prst="rect">
            <a:avLst/>
          </a:prstGeom>
          <a:ln w="0">
            <a:noFill/>
          </a:ln>
        </p:spPr>
      </p:pic>
      <p:pic>
        <p:nvPicPr>
          <p:cNvPr id="311" name="Content Placeholder 3" descr=""/>
          <p:cNvPicPr/>
          <p:nvPr/>
        </p:nvPicPr>
        <p:blipFill>
          <a:blip r:embed="rId3"/>
          <a:stretch/>
        </p:blipFill>
        <p:spPr>
          <a:xfrm>
            <a:off x="4718160" y="1938240"/>
            <a:ext cx="4206600" cy="390204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3"/>
          <p:cNvGrpSpPr/>
          <p:nvPr/>
        </p:nvGrpSpPr>
        <p:grpSpPr>
          <a:xfrm>
            <a:off x="533520" y="3352680"/>
            <a:ext cx="5943600" cy="2362320"/>
            <a:chOff x="533520" y="3352680"/>
            <a:chExt cx="5943600" cy="2362320"/>
          </a:xfrm>
        </p:grpSpPr>
        <p:pic>
          <p:nvPicPr>
            <p:cNvPr id="313" name="Content Placeholder 2" descr=""/>
            <p:cNvPicPr/>
            <p:nvPr/>
          </p:nvPicPr>
          <p:blipFill>
            <a:blip r:embed="rId4"/>
            <a:stretch/>
          </p:blipFill>
          <p:spPr>
            <a:xfrm>
              <a:off x="533520" y="3352680"/>
              <a:ext cx="3058560" cy="2362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14" name="Curved Connector 6"/>
            <p:cNvCxnSpPr/>
            <p:nvPr/>
          </p:nvCxnSpPr>
          <p:spPr>
            <a:xfrm flipV="1">
              <a:off x="3583080" y="4056840"/>
              <a:ext cx="1752480" cy="300240"/>
            </a:xfrm>
            <a:prstGeom prst="curvedConnector5">
              <a:avLst>
                <a:gd name="adj1" fmla="val 49989"/>
                <a:gd name="adj2" fmla="val 49939"/>
                <a:gd name="adj3" fmla="val 49989"/>
              </a:avLst>
            </a:prstGeom>
            <a:ln w="648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315" name="Curved Connector 11"/>
            <p:cNvCxnSpPr/>
            <p:nvPr/>
          </p:nvCxnSpPr>
          <p:spPr>
            <a:xfrm flipV="1">
              <a:off x="3506400" y="4131360"/>
              <a:ext cx="2971080" cy="525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6480">
              <a:solidFill>
                <a:srgbClr val="ffff00"/>
              </a:solidFill>
              <a:miter/>
              <a:tailEnd len="med" type="arrow" w="med"/>
            </a:ln>
          </p:spPr>
        </p:cxnSp>
      </p:grpSp>
      <p:sp>
        <p:nvSpPr>
          <p:cNvPr id="316" name="TextBox 8"/>
          <p:cNvSpPr/>
          <p:nvPr/>
        </p:nvSpPr>
        <p:spPr>
          <a:xfrm>
            <a:off x="2209680" y="548640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Because the C/R Form is:</a:t>
            </a: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(x - h)</a:t>
            </a:r>
            <a:r>
              <a:rPr b="0" lang="en-US" sz="1800" spc="-1" strike="noStrike" baseline="30000">
                <a:solidFill>
                  <a:srgbClr val="dbe5f1"/>
                </a:solidFill>
                <a:latin typeface="Candara"/>
              </a:rPr>
              <a:t>2</a:t>
            </a: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 + (y - k)</a:t>
            </a:r>
            <a:r>
              <a:rPr b="0" lang="en-US" sz="1800" spc="-1" strike="noStrike" baseline="30000">
                <a:solidFill>
                  <a:srgbClr val="dbe5f1"/>
                </a:solidFill>
                <a:latin typeface="Candara"/>
              </a:rPr>
              <a:t>2</a:t>
            </a:r>
            <a:r>
              <a:rPr b="0" lang="en-US" sz="1800" spc="-1" strike="noStrike">
                <a:solidFill>
                  <a:srgbClr val="dbe5f1"/>
                </a:solidFill>
                <a:latin typeface="Candara"/>
              </a:rPr>
              <a:t> = r</a:t>
            </a:r>
            <a:r>
              <a:rPr b="0" lang="en-US" sz="1800" spc="-1" strike="noStrike" baseline="30000">
                <a:solidFill>
                  <a:srgbClr val="dbe5f1"/>
                </a:solidFill>
                <a:latin typeface="Candara"/>
              </a:rPr>
              <a:t>2</a:t>
            </a: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64620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318" name="Content Placeholder 2" descr=""/>
          <p:cNvPicPr/>
          <p:nvPr/>
        </p:nvPicPr>
        <p:blipFill>
          <a:blip r:embed="rId2"/>
          <a:stretch/>
        </p:blipFill>
        <p:spPr>
          <a:xfrm>
            <a:off x="530280" y="1231920"/>
            <a:ext cx="2981160" cy="220644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"/>
          <p:cNvPicPr/>
          <p:nvPr/>
        </p:nvPicPr>
        <p:blipFill>
          <a:blip r:embed="rId3"/>
          <a:stretch/>
        </p:blipFill>
        <p:spPr>
          <a:xfrm>
            <a:off x="4718160" y="1938240"/>
            <a:ext cx="42066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7785000" cy="1914480"/>
          </a:xfrm>
          <a:prstGeom prst="rect">
            <a:avLst/>
          </a:prstGeom>
          <a:ln w="0">
            <a:noFill/>
          </a:ln>
        </p:spPr>
      </p:pic>
      <p:pic>
        <p:nvPicPr>
          <p:cNvPr id="321" name="Text Placeholder 2" descr=""/>
          <p:cNvPicPr/>
          <p:nvPr/>
        </p:nvPicPr>
        <p:blipFill>
          <a:blip r:embed="rId2"/>
          <a:stretch/>
        </p:blipFill>
        <p:spPr>
          <a:xfrm>
            <a:off x="682560" y="3852720"/>
            <a:ext cx="7785000" cy="2401920"/>
          </a:xfrm>
          <a:prstGeom prst="rect">
            <a:avLst/>
          </a:prstGeom>
          <a:ln w="0">
            <a:noFill/>
          </a:ln>
        </p:spPr>
      </p:pic>
      <p:cxnSp>
        <p:nvCxnSpPr>
          <p:cNvPr id="322" name="Straight Arrow Connector 4"/>
          <p:cNvCxnSpPr/>
          <p:nvPr/>
        </p:nvCxnSpPr>
        <p:spPr>
          <a:xfrm flipV="1">
            <a:off x="4113720" y="4952520"/>
            <a:ext cx="229320" cy="610560"/>
          </a:xfrm>
          <a:prstGeom prst="straightConnector1">
            <a:avLst/>
          </a:prstGeom>
          <a:ln w="64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506520" y="1749600"/>
            <a:ext cx="5675040" cy="2352600"/>
          </a:xfrm>
          <a:prstGeom prst="rect">
            <a:avLst/>
          </a:prstGeom>
          <a:ln w="0">
            <a:noFill/>
          </a:ln>
        </p:spPr>
      </p:pic>
      <p:pic>
        <p:nvPicPr>
          <p:cNvPr id="324" name="Subtitle 2" descr=""/>
          <p:cNvPicPr/>
          <p:nvPr/>
        </p:nvPicPr>
        <p:blipFill>
          <a:blip r:embed="rId2"/>
          <a:stretch/>
        </p:blipFill>
        <p:spPr>
          <a:xfrm>
            <a:off x="1427040" y="3693960"/>
            <a:ext cx="47545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62080" y="371520"/>
            <a:ext cx="6261120" cy="1171440"/>
          </a:xfrm>
          <a:prstGeom prst="rect">
            <a:avLst/>
          </a:prstGeom>
          <a:ln w="0">
            <a:noFill/>
          </a:ln>
        </p:spPr>
      </p:pic>
      <p:pic>
        <p:nvPicPr>
          <p:cNvPr id="326" name="Content Placeholder 2" descr=""/>
          <p:cNvPicPr/>
          <p:nvPr/>
        </p:nvPicPr>
        <p:blipFill>
          <a:blip r:embed="rId2"/>
          <a:stretch/>
        </p:blipFill>
        <p:spPr>
          <a:xfrm>
            <a:off x="1968480" y="1968480"/>
            <a:ext cx="4975200" cy="38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4267080" y="480060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4724280" y="4800600"/>
                <a:ext cx="13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5181480" y="4800600"/>
                <a:ext cx="29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4343400" y="525780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4800600" y="5257800"/>
                <a:ext cx="13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5334120" y="5257800"/>
                <a:ext cx="380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719280" y="255600"/>
            <a:ext cx="6145200" cy="117648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2" descr=""/>
          <p:cNvPicPr/>
          <p:nvPr/>
        </p:nvPicPr>
        <p:blipFill>
          <a:blip r:embed="rId2"/>
          <a:stretch/>
        </p:blipFill>
        <p:spPr>
          <a:xfrm>
            <a:off x="530280" y="1536840"/>
            <a:ext cx="3004920" cy="410832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"/>
          <p:cNvPicPr/>
          <p:nvPr/>
        </p:nvPicPr>
        <p:blipFill>
          <a:blip r:embed="rId3"/>
          <a:stretch/>
        </p:blipFill>
        <p:spPr>
          <a:xfrm>
            <a:off x="4718160" y="1914480"/>
            <a:ext cx="4292640" cy="4572000"/>
          </a:xfrm>
          <a:prstGeom prst="rect">
            <a:avLst/>
          </a:prstGeom>
          <a:ln w="0">
            <a:noFill/>
          </a:ln>
        </p:spPr>
      </p:pic>
      <p:cxnSp>
        <p:nvCxnSpPr>
          <p:cNvPr id="336" name="Straight Arrow Connector 4"/>
          <p:cNvCxnSpPr/>
          <p:nvPr/>
        </p:nvCxnSpPr>
        <p:spPr>
          <a:xfrm flipV="1">
            <a:off x="6095520" y="4038120"/>
            <a:ext cx="686520" cy="61056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3:16:57Z</dcterms:created>
  <dc:creator>Doug Shook</dc:creator>
  <dc:description/>
  <dc:language>en-US</dc:language>
  <cp:lastModifiedBy>Doug Shook</cp:lastModifiedBy>
  <dcterms:modified xsi:type="dcterms:W3CDTF">2008-03-26T23:26:50Z</dcterms:modified>
  <cp:revision>1</cp:revision>
  <dc:subject/>
  <dc:title>Conic Sections  -Circles</dc:title>
</cp:coreProperties>
</file>